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8C26-BF54-4324-A79F-2E69102E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B0F5-5868-4120-A795-553E75B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2CA-2729-4E99-A268-C5D84806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C6E-6C23-4511-90EE-40E59164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093-01F8-4320-8C9A-0F66AEA2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4F1-8EDA-46C7-81D0-F0DB2F8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BB6-0E05-4EA6-A363-AF5EA11F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B2F-BC3E-481B-9A22-A755D3DF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493-AB2B-4FA6-969E-09A06293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1AB-225D-467A-83BD-EA008F18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5FD2-8397-4706-B041-99980BAD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ADD-E754-4FDE-BB19-D20B9DD1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6052-0E89-426D-9200-1130AE862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839160" y="4572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1547640" y="981000"/>
            <a:ext cx="5185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村  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101116152835750"/>
          <p:cNvPicPr/>
          <p:nvPr/>
        </p:nvPicPr>
        <p:blipFill>
          <a:blip r:embed="rId1"/>
          <a:stretch/>
        </p:blipFill>
        <p:spPr>
          <a:xfrm>
            <a:off x="179280" y="476280"/>
            <a:ext cx="4643640" cy="3166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3fede080-17ec-4a41-9aae-dade7087c772"/>
          <p:cNvPicPr/>
          <p:nvPr/>
        </p:nvPicPr>
        <p:blipFill>
          <a:blip r:embed="rId2"/>
          <a:stretch/>
        </p:blipFill>
        <p:spPr>
          <a:xfrm>
            <a:off x="4859280" y="476280"/>
            <a:ext cx="4284720" cy="317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195640" y="364500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0" y="450864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32b09"/>
                </a:solidFill>
                <a:latin typeface="Arial"/>
              </a:rPr>
              <a:t>赏   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又  观  竹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00720" y="515772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煮   酒  再  烹  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u=2955051370,3990546206&amp;fm=52&amp;gp=0"/>
          <p:cNvPicPr/>
          <p:nvPr/>
        </p:nvPicPr>
        <p:blipFill>
          <a:blip r:embed="rId3"/>
          <a:srcRect l="0" t="0" r="876" b="8957"/>
          <a:stretch/>
        </p:blipFill>
        <p:spPr>
          <a:xfrm>
            <a:off x="179280" y="3789360"/>
            <a:ext cx="37832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ca5503881de1a3db9998fd2"/>
          <p:cNvPicPr/>
          <p:nvPr/>
        </p:nvPicPr>
        <p:blipFill>
          <a:blip r:embed="rId1"/>
          <a:stretch/>
        </p:blipFill>
        <p:spPr>
          <a:xfrm>
            <a:off x="4427640" y="476280"/>
            <a:ext cx="3671640" cy="2909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4c319774cf50ae4b8cb10dc7"/>
          <p:cNvPicPr/>
          <p:nvPr/>
        </p:nvPicPr>
        <p:blipFill>
          <a:blip r:embed="rId2"/>
          <a:stretch/>
        </p:blipFill>
        <p:spPr>
          <a:xfrm>
            <a:off x="108000" y="476280"/>
            <a:ext cx="4141800" cy="283212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"/>
          <p:cNvGrpSpPr/>
          <p:nvPr/>
        </p:nvGrpSpPr>
        <p:grpSpPr>
          <a:xfrm>
            <a:off x="4716360" y="3429000"/>
            <a:ext cx="4174920" cy="2952360"/>
            <a:chOff x="4716360" y="3429000"/>
            <a:chExt cx="4174920" cy="2952360"/>
          </a:xfrm>
        </p:grpSpPr>
        <p:pic>
          <p:nvPicPr>
            <p:cNvPr id="89" name="Picture 5" descr="莲子-形状"/>
            <p:cNvPicPr/>
            <p:nvPr/>
          </p:nvPicPr>
          <p:blipFill>
            <a:blip r:embed="rId3"/>
            <a:stretch/>
          </p:blipFill>
          <p:spPr>
            <a:xfrm>
              <a:off x="4716360" y="3429000"/>
              <a:ext cx="3312360" cy="29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WordArt 6"/>
            <p:cNvSpPr txBox="1"/>
            <p:nvPr/>
          </p:nvSpPr>
          <p:spPr>
            <a:xfrm>
              <a:off x="7615080" y="4190040"/>
              <a:ext cx="1276200" cy="114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莲子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91" name="Group 7"/>
          <p:cNvGrpSpPr/>
          <p:nvPr/>
        </p:nvGrpSpPr>
        <p:grpSpPr>
          <a:xfrm>
            <a:off x="179280" y="3429000"/>
            <a:ext cx="4392360" cy="2808360"/>
            <a:chOff x="179280" y="3429000"/>
            <a:chExt cx="4392360" cy="2808360"/>
          </a:xfrm>
        </p:grpSpPr>
        <p:pic>
          <p:nvPicPr>
            <p:cNvPr id="92" name="Picture 8" descr="c52a0d48d0d3a3d7faf2c0f2"/>
            <p:cNvPicPr/>
            <p:nvPr/>
          </p:nvPicPr>
          <p:blipFill>
            <a:blip r:embed="rId4"/>
            <a:stretch/>
          </p:blipFill>
          <p:spPr>
            <a:xfrm>
              <a:off x="179280" y="3429000"/>
              <a:ext cx="439236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WordArt 9"/>
            <p:cNvSpPr txBox="1"/>
            <p:nvPr/>
          </p:nvSpPr>
          <p:spPr>
            <a:xfrm>
              <a:off x="251640" y="3493080"/>
              <a:ext cx="3083400" cy="84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荷花（莲花）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94" name="WordArt 10"/>
          <p:cNvSpPr txBox="1"/>
          <p:nvPr/>
        </p:nvSpPr>
        <p:spPr>
          <a:xfrm rot="5400000">
            <a:off x="7362360" y="1503360"/>
            <a:ext cx="2303640" cy="82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54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采莲女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03280" y="549360"/>
            <a:ext cx="6985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能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按原文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蔓（ ）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藤（ ）瓜，（填近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）叶衬（ ）花。（填表示颜色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（ ）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（ ）沙，（填反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渔村傍农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菊又（ ）竹，（填近义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酒再（ ）茶。（填表示动作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池塘边采莲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）盏灯前读书娃。（填表示数量的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258920" y="1268280"/>
            <a:ext cx="638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先组词，再写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景 （风景） 这里的风景可真美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菊 （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 （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娃 （        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4740120" y="2398680"/>
            <a:ext cx="1452600" cy="1439640"/>
            <a:chOff x="4740120" y="2398680"/>
            <a:chExt cx="1452600" cy="1439640"/>
          </a:xfrm>
        </p:grpSpPr>
        <p:sp>
          <p:nvSpPr>
            <p:cNvPr id="98" name="Rectangle 3"/>
            <p:cNvSpPr/>
            <p:nvPr/>
          </p:nvSpPr>
          <p:spPr>
            <a:xfrm>
              <a:off x="4752720" y="2398680"/>
              <a:ext cx="144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4"/>
            <p:cNvSpPr/>
            <p:nvPr/>
          </p:nvSpPr>
          <p:spPr>
            <a:xfrm>
              <a:off x="5473440" y="239868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"/>
            <p:cNvSpPr/>
            <p:nvPr/>
          </p:nvSpPr>
          <p:spPr>
            <a:xfrm>
              <a:off x="4740120" y="310644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6"/>
          <p:cNvGrpSpPr/>
          <p:nvPr/>
        </p:nvGrpSpPr>
        <p:grpSpPr>
          <a:xfrm>
            <a:off x="2851200" y="2273400"/>
            <a:ext cx="1452600" cy="1439640"/>
            <a:chOff x="2851200" y="2273400"/>
            <a:chExt cx="1452600" cy="1439640"/>
          </a:xfrm>
        </p:grpSpPr>
        <p:sp>
          <p:nvSpPr>
            <p:cNvPr id="102" name="Rectangle 7"/>
            <p:cNvSpPr/>
            <p:nvPr/>
          </p:nvSpPr>
          <p:spPr>
            <a:xfrm>
              <a:off x="2863800" y="227340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>
              <a:off x="3584520" y="22734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9"/>
            <p:cNvSpPr/>
            <p:nvPr/>
          </p:nvSpPr>
          <p:spPr>
            <a:xfrm>
              <a:off x="2851200" y="29811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0"/>
          <p:cNvSpPr/>
          <p:nvPr/>
        </p:nvSpPr>
        <p:spPr>
          <a:xfrm>
            <a:off x="457200" y="533520"/>
            <a:ext cx="3313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黑体"/>
                <a:ea typeface="黑体"/>
              </a:rPr>
              <a:t>把字写好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1"/>
          <p:cNvGrpSpPr/>
          <p:nvPr/>
        </p:nvGrpSpPr>
        <p:grpSpPr>
          <a:xfrm>
            <a:off x="1015920" y="2276640"/>
            <a:ext cx="1452600" cy="1439640"/>
            <a:chOff x="1015920" y="2276640"/>
            <a:chExt cx="1452600" cy="1439640"/>
          </a:xfrm>
        </p:grpSpPr>
        <p:sp>
          <p:nvSpPr>
            <p:cNvPr id="107" name="Rectangle 12"/>
            <p:cNvSpPr/>
            <p:nvPr/>
          </p:nvSpPr>
          <p:spPr>
            <a:xfrm>
              <a:off x="102852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13"/>
            <p:cNvSpPr/>
            <p:nvPr/>
          </p:nvSpPr>
          <p:spPr>
            <a:xfrm>
              <a:off x="174924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4"/>
            <p:cNvSpPr/>
            <p:nvPr/>
          </p:nvSpPr>
          <p:spPr>
            <a:xfrm>
              <a:off x="101592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5"/>
          <p:cNvSpPr/>
          <p:nvPr/>
        </p:nvSpPr>
        <p:spPr>
          <a:xfrm>
            <a:off x="990720" y="220032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2825640" y="217188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730760" y="2259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4724280" y="2286000"/>
            <a:ext cx="1452600" cy="1439640"/>
            <a:chOff x="4724280" y="2286000"/>
            <a:chExt cx="1452600" cy="1439640"/>
          </a:xfrm>
        </p:grpSpPr>
        <p:sp>
          <p:nvSpPr>
            <p:cNvPr id="114" name="Rectangle 19"/>
            <p:cNvSpPr/>
            <p:nvPr/>
          </p:nvSpPr>
          <p:spPr>
            <a:xfrm>
              <a:off x="4736880" y="228600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0"/>
            <p:cNvSpPr/>
            <p:nvPr/>
          </p:nvSpPr>
          <p:spPr>
            <a:xfrm>
              <a:off x="5457600" y="228600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4724280" y="299376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6548400" y="2394000"/>
            <a:ext cx="1452600" cy="1439640"/>
            <a:chOff x="6548400" y="2394000"/>
            <a:chExt cx="1452600" cy="1439640"/>
          </a:xfrm>
        </p:grpSpPr>
        <p:sp>
          <p:nvSpPr>
            <p:cNvPr id="118" name="Rectangle 23"/>
            <p:cNvSpPr/>
            <p:nvPr/>
          </p:nvSpPr>
          <p:spPr>
            <a:xfrm>
              <a:off x="6561000" y="2394000"/>
              <a:ext cx="144000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7281720" y="2394000"/>
              <a:ext cx="0" cy="1439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5"/>
            <p:cNvSpPr/>
            <p:nvPr/>
          </p:nvSpPr>
          <p:spPr>
            <a:xfrm>
              <a:off x="6548400" y="3101760"/>
              <a:ext cx="1440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26"/>
          <p:cNvSpPr/>
          <p:nvPr/>
        </p:nvSpPr>
        <p:spPr>
          <a:xfrm>
            <a:off x="6637320" y="2254320"/>
            <a:ext cx="144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7"/>
          <p:cNvGrpSpPr/>
          <p:nvPr/>
        </p:nvGrpSpPr>
        <p:grpSpPr>
          <a:xfrm>
            <a:off x="6648480" y="2276640"/>
            <a:ext cx="1452600" cy="1439640"/>
            <a:chOff x="6648480" y="2276640"/>
            <a:chExt cx="1452600" cy="1439640"/>
          </a:xfrm>
        </p:grpSpPr>
        <p:sp>
          <p:nvSpPr>
            <p:cNvPr id="123" name="Rectangle 28"/>
            <p:cNvSpPr/>
            <p:nvPr/>
          </p:nvSpPr>
          <p:spPr>
            <a:xfrm>
              <a:off x="6661080" y="227664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9"/>
            <p:cNvSpPr/>
            <p:nvPr/>
          </p:nvSpPr>
          <p:spPr>
            <a:xfrm>
              <a:off x="7381800" y="227664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6648480" y="298440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1119240" y="4444920"/>
            <a:ext cx="1452600" cy="1439640"/>
            <a:chOff x="1119240" y="4444920"/>
            <a:chExt cx="1452600" cy="1439640"/>
          </a:xfrm>
        </p:grpSpPr>
        <p:sp>
          <p:nvSpPr>
            <p:cNvPr id="127" name="Rectangle 32"/>
            <p:cNvSpPr/>
            <p:nvPr/>
          </p:nvSpPr>
          <p:spPr>
            <a:xfrm>
              <a:off x="1131840" y="44449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1852560" y="44449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4"/>
            <p:cNvSpPr/>
            <p:nvPr/>
          </p:nvSpPr>
          <p:spPr>
            <a:xfrm>
              <a:off x="1119240" y="51526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35"/>
          <p:cNvSpPr/>
          <p:nvPr/>
        </p:nvSpPr>
        <p:spPr>
          <a:xfrm>
            <a:off x="1143000" y="43434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6"/>
          <p:cNvGrpSpPr/>
          <p:nvPr/>
        </p:nvGrpSpPr>
        <p:grpSpPr>
          <a:xfrm>
            <a:off x="3164040" y="4459320"/>
            <a:ext cx="1451880" cy="1439640"/>
            <a:chOff x="3164040" y="4459320"/>
            <a:chExt cx="1451880" cy="1439640"/>
          </a:xfrm>
        </p:grpSpPr>
        <p:sp>
          <p:nvSpPr>
            <p:cNvPr id="132" name="Rectangle 37"/>
            <p:cNvSpPr/>
            <p:nvPr/>
          </p:nvSpPr>
          <p:spPr>
            <a:xfrm>
              <a:off x="3176280" y="4459320"/>
              <a:ext cx="143964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8"/>
            <p:cNvSpPr/>
            <p:nvPr/>
          </p:nvSpPr>
          <p:spPr>
            <a:xfrm>
              <a:off x="389700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9"/>
            <p:cNvSpPr/>
            <p:nvPr/>
          </p:nvSpPr>
          <p:spPr>
            <a:xfrm>
              <a:off x="3164040" y="5167080"/>
              <a:ext cx="143964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40"/>
          <p:cNvSpPr/>
          <p:nvPr/>
        </p:nvSpPr>
        <p:spPr>
          <a:xfrm>
            <a:off x="3160800" y="4357800"/>
            <a:ext cx="143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1"/>
          <p:cNvGrpSpPr/>
          <p:nvPr/>
        </p:nvGrpSpPr>
        <p:grpSpPr>
          <a:xfrm>
            <a:off x="5006880" y="4459320"/>
            <a:ext cx="1452600" cy="1439640"/>
            <a:chOff x="5006880" y="4459320"/>
            <a:chExt cx="1452600" cy="1439640"/>
          </a:xfrm>
        </p:grpSpPr>
        <p:sp>
          <p:nvSpPr>
            <p:cNvPr id="137" name="Rectangle 42"/>
            <p:cNvSpPr/>
            <p:nvPr/>
          </p:nvSpPr>
          <p:spPr>
            <a:xfrm>
              <a:off x="5019480" y="4459320"/>
              <a:ext cx="1440000" cy="14396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43"/>
            <p:cNvSpPr/>
            <p:nvPr/>
          </p:nvSpPr>
          <p:spPr>
            <a:xfrm>
              <a:off x="5740200" y="4459320"/>
              <a:ext cx="0" cy="143964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4"/>
            <p:cNvSpPr/>
            <p:nvPr/>
          </p:nvSpPr>
          <p:spPr>
            <a:xfrm>
              <a:off x="5006880" y="5167080"/>
              <a:ext cx="1440000" cy="0"/>
            </a:xfrm>
            <a:prstGeom prst="line">
              <a:avLst/>
            </a:prstGeom>
            <a:ln w="9360">
              <a:solidFill>
                <a:srgbClr val="99cc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45"/>
          <p:cNvSpPr/>
          <p:nvPr/>
        </p:nvSpPr>
        <p:spPr>
          <a:xfrm>
            <a:off x="5037120" y="4437000"/>
            <a:ext cx="144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1979640" y="189000"/>
            <a:ext cx="3456000" cy="68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8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村景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结瓜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有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水无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渔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农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赏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又观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酒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半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边采莲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灯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书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55600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2268360" y="400536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259920"/>
            <a:ext cx="5338800" cy="5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些词语我会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0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豆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藤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晚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赏   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煮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灯  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读 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189800" y="1282680"/>
            <a:ext cx="87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070160" y="1217520"/>
            <a:ext cx="93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é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302520" y="1217520"/>
            <a:ext cx="9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è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177920" y="2822400"/>
            <a:ext cx="102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3341520" y="2838600"/>
            <a:ext cx="12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698720" y="2852640"/>
            <a:ext cx="4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6443640" y="2852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547640" y="428472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30520" y="43498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986720" y="4292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1752480" y="2133720"/>
            <a:ext cx="49532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蔓生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藤结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绿叶衬红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292720" y="836640"/>
            <a:ext cx="3672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àn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指细长且不能直立的茎。如豆蔓、顺蔓摸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某些植物的匍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ú f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茎或攀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ānyuá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茎，如白藤、紫藤、葡萄等的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区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蔓</a:t>
            </a: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横向生长</a:t>
            </a:r>
            <a:r>
              <a:rPr b="1" lang="en-US" sz="3200" spc="-1" strike="noStrike">
                <a:solidFill>
                  <a:srgbClr val="d32b0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藤</a:t>
            </a:r>
            <a:r>
              <a:rPr b="1" lang="zh-CN" sz="3200" spc="-1" strike="noStrike">
                <a:solidFill>
                  <a:srgbClr val="d32b09"/>
                </a:solidFill>
                <a:latin typeface="Arial"/>
              </a:rPr>
              <a:t>是纵向生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dou4"/>
          <p:cNvPicPr/>
          <p:nvPr/>
        </p:nvPicPr>
        <p:blipFill>
          <a:blip r:embed="rId1"/>
          <a:srcRect l="0" t="0" r="1060" b="19536"/>
          <a:stretch/>
        </p:blipFill>
        <p:spPr>
          <a:xfrm>
            <a:off x="324000" y="620640"/>
            <a:ext cx="3562200" cy="204624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3995640" y="1197000"/>
            <a:ext cx="122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蔓生豆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" name="WordArt 5"/>
          <p:cNvSpPr txBox="1"/>
          <p:nvPr/>
        </p:nvSpPr>
        <p:spPr>
          <a:xfrm>
            <a:off x="3708360" y="4076640"/>
            <a:ext cx="136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藤结瓜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64" name="Picture 6" descr="20110313135449-650301526"/>
          <p:cNvPicPr/>
          <p:nvPr/>
        </p:nvPicPr>
        <p:blipFill>
          <a:blip r:embed="rId2"/>
          <a:stretch/>
        </p:blipFill>
        <p:spPr>
          <a:xfrm>
            <a:off x="395280" y="3284640"/>
            <a:ext cx="316872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404640"/>
            <a:ext cx="6912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来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“绿叶</a:t>
            </a:r>
            <a:r>
              <a:rPr b="1" lang="zh-CN" sz="2400" spc="-1" strike="noStrike">
                <a:solidFill>
                  <a:srgbClr val="d32b09"/>
                </a:solidFill>
                <a:latin typeface="Arial"/>
              </a:rPr>
              <a:t>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花”中，</a:t>
            </a:r>
            <a:r>
              <a:rPr b="1" lang="zh-CN" sz="2400" spc="-1" strike="noStrike">
                <a:solidFill>
                  <a:srgbClr val="d32b09"/>
                </a:solidFill>
                <a:latin typeface="Arial"/>
              </a:rPr>
              <a:t>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意思呢？（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字典中它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里面或下面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一层。如：衬上一层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衬在里面的。如衬衣、衬衫、衬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é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衬、衬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如：红花衬着绿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0100104_3f883c9bad8f1a20c76f206VLfF8lT60"/>
          <p:cNvPicPr/>
          <p:nvPr/>
        </p:nvPicPr>
        <p:blipFill>
          <a:blip r:embed="rId1"/>
          <a:stretch/>
        </p:blipFill>
        <p:spPr>
          <a:xfrm>
            <a:off x="179280" y="3645000"/>
            <a:ext cx="4248360" cy="305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u=2997194474,3928066066&amp;fm=52&amp;gp=0"/>
          <p:cNvPicPr/>
          <p:nvPr/>
        </p:nvPicPr>
        <p:blipFill>
          <a:blip r:embed="rId2"/>
          <a:stretch/>
        </p:blipFill>
        <p:spPr>
          <a:xfrm>
            <a:off x="4572000" y="3645000"/>
            <a:ext cx="4103640" cy="307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6012000" y="98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5940360" y="98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826920" y="981000"/>
            <a:ext cx="4419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山有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无沙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渔村傍农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134080" y="4221000"/>
            <a:ext cx="5301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这句话描绘的是自然风光之美。“山有色，水无沙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六个字把青山绿水的一派大好风光呈现在我们眼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渔村靠近农家小院，坐落在依山傍水的地方。青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山，绿绿的水，典雅的渔村和农家小院，无不表现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乡村的宁静、优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468360" y="476280"/>
            <a:ext cx="770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来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渔 村 </a:t>
            </a:r>
            <a:r>
              <a:rPr b="1" lang="zh-CN" sz="2400" spc="-1" strike="noStrike">
                <a:solidFill>
                  <a:srgbClr val="d32b09"/>
                </a:solidFill>
                <a:latin typeface="宋体"/>
              </a:rPr>
              <a:t>傍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农 家”中“</a:t>
            </a:r>
            <a:r>
              <a:rPr b="1" lang="zh-CN" sz="2400" spc="-1" strike="noStrike">
                <a:solidFill>
                  <a:srgbClr val="d32b09"/>
                </a:solidFill>
                <a:latin typeface="宋体"/>
              </a:rPr>
              <a:t>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”是什么意思呢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靠近：如依山傍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接近（指时间），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傍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20080327180912_583528299"/>
          <p:cNvPicPr/>
          <p:nvPr/>
        </p:nvPicPr>
        <p:blipFill>
          <a:blip r:embed="rId1"/>
          <a:stretch/>
        </p:blipFill>
        <p:spPr>
          <a:xfrm>
            <a:off x="4500720" y="2997360"/>
            <a:ext cx="4643280" cy="386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2406594_090838054_2"/>
          <p:cNvPicPr/>
          <p:nvPr/>
        </p:nvPicPr>
        <p:blipFill>
          <a:blip r:embed="rId2"/>
          <a:srcRect l="0" t="0" r="184" b="6426"/>
          <a:stretch/>
        </p:blipFill>
        <p:spPr>
          <a:xfrm>
            <a:off x="108000" y="2997360"/>
            <a:ext cx="4311720" cy="3098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6732720" y="1052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村景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24000" y="0"/>
            <a:ext cx="54864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赏菊又观竹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煮酒再烹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半塘池边采莲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盏灯前读书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24000" y="39337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菊和竹，说明时节是秋季，虽说是农家小院，景色却十分雅致。“赏菊””观竹”“煮酒”烹茶”四个词语，把乡村悠然自在的生活展现在我们面前。通过 “煮酒、烹茶”可以想象乡村人们悠闲自在、丰衣足食幸福安逸的生活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1-27T18:28:20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